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B8-E6A4-4BFA-858A-396D5731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193-B3D5-4312-A861-4C132A3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599-BB20-47AD-9BBC-B3106713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950-2796-46B0-B420-6A58C9E1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FA2-54DE-4717-8DA4-2ABD4EDF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72D-3AED-4A48-8120-E5B5AAD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245-B937-4C66-B0FC-1089400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3EE-D1F8-4155-8F21-587CCB6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3A2-03B5-481E-AB27-087BD6B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C5D-E318-4A1B-9CEB-72675C2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DC8-864F-466A-8930-92D0B15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53A-0907-4C3E-95C8-ED470D5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B6E1-DA6E-4603-9180-8C4EE757EC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nematograph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the camera to create a world that we perceive on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keyhole ho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ghting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shots are lit affects how we perceiv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ing ratios:  hard/high key, soft/low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point system:  keylight, fill light, back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OT lit is an important aspect of lighting (just as offscreen space is as important as onscreen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occooned by the alien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ooking down the hall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arrow radio city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why are you taking them off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roduction Value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m that describes the number of people and amount of resources expended on creating a fi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amera crew at work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ypes of Lense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rture:  an iris that limits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al length:  wide, narrow angle, z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lenses are employed for different focal lengths (prime lenses, zoom len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th of field:  what planes are in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read and wine with witche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olanski framing shot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innie in the fishey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hone booth claustro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ong shot down the stre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ct ratio (ratio of width to he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ks (placed over aperture to change the shape of th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 effects (iris-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aming and POV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scient POV (mos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-character POV (can also rot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arody oft he social entranc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cs legs and fee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angle shot bel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ot Dur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-motion emphasizes th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-motion is usually fu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ake (film permits 10 minutes, but this can be extended) creates feeling of real time and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ree Basic Shot Leng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up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shot (typ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adations of these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e., XCS, XLS, M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inematography is a languag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ed by certain conven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restricted by these conventio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ng and complementing the film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other form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cs outtake2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nfusio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innie and roman leg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ot Dep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-space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-focus cinema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le of thi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ey lets make lov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r hill office through door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ighting2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era Angle/He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-level shot (from typical PO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angle shot (from over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ngle (from be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tch angle (til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rial view (from above – long sh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om bel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oking up at roma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all clos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innie in the fishey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raw flesh reflection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hreshold shot through party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dmiring the LR 1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era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with lens movements (earl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t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y or tracking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om shot (a camera eff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ne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or steadicam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iving room 2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long shot LR to K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utch hallway sha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cial Effec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amera (as in transition effe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(staged), including day-for-night, split screen, blow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/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ay for nigh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hot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up: the camera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position for 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:  one uninterrupted run of the 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:  the number of times a shot must be repeated (think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two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sual themes in the fil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s – doors,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ed windows/enclo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utch rosemary kitchen win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rosemary in window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all closet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knifing the package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ack your bag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read and wine with witches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hone booth claustro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pill"/>
          <p:cNvPicPr/>
          <p:nvPr/>
        </p:nvPicPr>
        <p:blipFill>
          <a:blip r:embed="rId1"/>
          <a:stretch/>
        </p:blipFill>
        <p:spPr>
          <a:xfrm>
            <a:off x="509760" y="1143000"/>
            <a:ext cx="812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amera peopl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nematogra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operator and assistant camera operators 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ans: 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ffer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boy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p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amera over bed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lm stock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s of film (8 mm – 70mm) – 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f film (fast, slow) –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inines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-and-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tape vs. movie film (not in the Barsam book, but importan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6:31:20Z</dcterms:created>
  <dc:creator>abc1234</dc:creator>
  <dc:description/>
  <dc:language>en-US</dc:language>
  <cp:lastModifiedBy>Robin Murray</cp:lastModifiedBy>
  <dcterms:modified xsi:type="dcterms:W3CDTF">2011-10-31T19:36:53Z</dcterms:modified>
  <cp:revision>4</cp:revision>
  <dc:subject/>
  <dc:title>Cinematography </dc:title>
</cp:coreProperties>
</file>